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98C9-4D4E-45ED-ACF6-40BEE9E09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7A02-20DF-4110-918A-1CF7B1CA2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FF93-1866-41C1-B324-1453BA1BB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DED9-A5F1-4217-85A0-87DE6ABF4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8380-31D3-4644-BB2A-851F18B3F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15A0-B8D0-4BFF-A7A5-74F16FB46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qualitie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that underpin a leader’s ability to improve teaching and learning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anaakitanga – leading with moral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ono – having self-bel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ko- being a lear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whinatanga – guiding and sup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E699-6E14-4F8F-9991-D099F8DEA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eracy leaders fill in the questionnaire. What are the challenges for each of them? Construct learning intentions from these challe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C455-8089-445A-8BE2-341D14E45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handout on accessing NZQA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Maths example and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8647-F594-4772-BCC4-23EBBF023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1ACF-86CC-4439-9759-CD080E4CE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685A-8812-4E4C-B36E-C4E9009B6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6416-72F3-4359-B885-E3DC8CF7F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E515-5778-433E-9829-BE9006F0B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BC96-5AF6-4D0A-B060-E957D805C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9652-120D-408D-8941-AEAE9F3F8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7A42-0E3A-4BCA-A254-F94BFAF94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AD37-5BE3-48F4-A14E-430967BBF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C1F9-A479-4150-BE38-0A98B718B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636C-DC18-41FA-9DFD-2B58116D8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5F72-4294-46A6-A944-7C2774005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4F17-E4B8-49C1-A5F8-79B18B8AB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1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9" descr="6835_powerpoint_v2"/>
          <p:cNvPicPr/>
          <p:nvPr/>
        </p:nvPicPr>
        <p:blipFill>
          <a:blip r:embed="rId2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logos-joint-bw-lowres.jpg"/>
          <p:cNvPicPr/>
          <p:nvPr/>
        </p:nvPicPr>
        <p:blipFill>
          <a:blip r:embed="rId3"/>
          <a:stretch/>
        </p:blipFill>
        <p:spPr>
          <a:xfrm>
            <a:off x="5638680" y="228600"/>
            <a:ext cx="287676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5497560" y="5319720"/>
            <a:ext cx="3646440" cy="1614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FOED Logo"/>
          <p:cNvPicPr/>
          <p:nvPr/>
        </p:nvPicPr>
        <p:blipFill>
          <a:blip r:embed="rId4"/>
          <a:stretch/>
        </p:blipFill>
        <p:spPr>
          <a:xfrm>
            <a:off x="7010280" y="5943600"/>
            <a:ext cx="1859040" cy="604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role of the literacy leader in subject specific literac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ngare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 November 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age 3: Subject specific literac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subjects have different ways of presenting knowledge, ideas, values and different ways of reading tex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Maths words such as “a” , “the”, “in”, “on” may be impor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History the writer and publication date of a text are impor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advantages of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can focus on specific literacy needs of their su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D can be tailored for each su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can measure improvement in student achievement through their subje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understand that the literacy demands are different in each su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problems with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cy leaders have a different role in facilitating subject specific lite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need to have an understanding of both the content and literacy requirements of their subje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may be resistant to developing subject specific literacy (proficient readers may need to develop new skil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lace of new texts needs to be consid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the SSA contract says about literac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ntract focuses on developing teachers’ literacy and language knowledge and skills to attend to the language demand in each learning 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ject specialists have a collective responsibility to develop (students’) literacy and language knowledge, skills and competencies within and across learning areas (focus areas 11-1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rt 2: Literacy leaders as middle leader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460520" y="2057400"/>
            <a:ext cx="622296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 leader as a middle leader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your area of greatest challeng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versations around dat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packing asTTle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packing NCEA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rt 3: Engaging with subject specific literac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Sci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rt 4: How to put it all into practic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get into dep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develop support across the school (literacy committee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develop sustainable chang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y is literacy so important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literacy costs NZ an estimated $3 billion a ye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"Often, the end result of low literacy levels is trapping people in a cycle of poverty, poor health, limited employment opportunities, reduced income potential and low productivity in businesses.” (Andrew Ka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earning intention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Literacy Leaders will ha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Developed their awareness of the literacy and language demands inherent in each learning area at NCEA levels 1-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Reviewed their capacity to use data effectively to determine students’ literacy and language strengths and needs at senior lev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Focused their attention on the literacy and language needs of priority learners: Māori, Pasifika, and learners with special educational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Reviewed and developed their ability to support middle leaders to respond effectively to the identified literacy and language needs of stud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Visit our website for the resource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leadingliteracynz.wikispaces.com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rt 1: An overview of secondary literacy in NZ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age 1: Literacy across the curriculum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mphasis on using literacy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strategies across the curriculum (e.g learning through languag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ies such as reciprocal teaching, KWL, vocab jumble became pop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cy seen as skills-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advantages of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teachers were positioned as teachers of lite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cy became a focus area in secondary sch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teachers incorporated literacy strategies in ways that improved student achie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problems with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ies were difficult to fit into some subject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teachers did not use the strategies consist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strategies were taught as isolated skil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age 2: SLP 2009-11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ocus on upskilling the literacy leader and creating learning communities of literacy lea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cy leader worked with a focus group of teachers, often around the literacy needs of a specific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idence-based, often still an emphasis on strategies but subject specific literacy also consid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advantages of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was funding for the literacy leader role and for P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ole of the literacy leader was emphasi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cy leaders across schools formed a national and regional learning 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required an examination of data to measure su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around a specific class often gained more engagement by teac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problems with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tended “trickle down effect” sometimes did not eventu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ffectiveness was strongly dependent on the literacy le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teachers did not use the strategies consist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strategies were taught as isolated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ta used to measure success was focussed on one area (Read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47:52Z</dcterms:created>
  <dc:creator>Studio 4</dc:creator>
  <dc:description/>
  <dc:language>en-US</dc:language>
  <cp:lastModifiedBy>Irene Andersen</cp:lastModifiedBy>
  <cp:lastPrinted>2012-11-20T01:26:44Z</cp:lastPrinted>
  <dcterms:modified xsi:type="dcterms:W3CDTF">2012-11-20T01:32:23Z</dcterms:modified>
  <cp:revision>38</cp:revision>
  <dc:subject/>
  <dc:title>PowerPoint Presentation</dc:title>
</cp:coreProperties>
</file>